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F47-B227-4761-ADD8-3045C91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9E9-5564-4965-B4A4-53C16934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487-F81E-4CFD-87EF-D2E80E9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8C5-50A4-4578-A20E-AA3751C9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BB7-65E0-4CF2-8ED3-49AF05D0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90A-B940-4B31-B22C-12C785E8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DFB-D1C2-4901-B0D3-9AF769E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BEC-4E6D-4AD9-9CC8-DD4B06C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D6F-CFE7-437D-933D-2E380B82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A88-C5E2-48C9-B31D-2FF3760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1D3-5FD3-4601-AD4B-88FD1DA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844-D866-4C76-A546-4C25BC5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3F7-B3D5-478F-B2F5-C4E42277BD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000080" y="2438280"/>
            <a:ext cx="508968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2090880" y="3048120"/>
            <a:ext cx="3792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6360" y="1920960"/>
            <a:ext cx="537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76280" y="1962000"/>
            <a:ext cx="8326440" cy="6843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285920" y="2639880"/>
            <a:ext cx="30416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2" descr=""/>
          <p:cNvPicPr/>
          <p:nvPr/>
        </p:nvPicPr>
        <p:blipFill>
          <a:blip r:embed="rId5"/>
          <a:stretch/>
        </p:blipFill>
        <p:spPr>
          <a:xfrm>
            <a:off x="5657760" y="1920960"/>
            <a:ext cx="2889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596880" y="1865160"/>
            <a:ext cx="805968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14400" y="3492360"/>
            <a:ext cx="6918480" cy="10130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2865600" y="2346480"/>
            <a:ext cx="3406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3371760" y="2755800"/>
            <a:ext cx="2419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0:19Z</dcterms:modified>
  <cp:revision>8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